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557C-5A39-4377-B947-1A691EA2B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38BE-5EF5-42EB-8907-64D1E09BE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ED0-B536-49F8-9E84-8C496B3A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C5F-9925-401C-B51B-83C245FA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434-BE69-4381-B2B5-BB961589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360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092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628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360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092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771-BFAA-4D8C-8FAD-2150F300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0E22-8A78-4B25-AD5C-3D0BE607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9F92-6480-41DF-9B1D-1C0078E1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A9ED-C389-4B6D-B007-76AD653F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82EC-1D33-4768-B9CA-67378D20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6EC7-CD81-4C0F-AF52-44EA62F5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09480" y="344160"/>
            <a:ext cx="73450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A1E5-2B8F-4738-B338-C7DB81B5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22A6-1CFA-4363-8BDC-7B16220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37C-3EE9-4481-907F-819AA4E7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9783-A9E9-4752-AEC4-632AD279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12E5-06EF-4C02-B229-10EDD8D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3410-10AE-467A-AB76-A679DEA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6A60-114F-4145-8107-9591D376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360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092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628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360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092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6127-45BA-490D-8D95-BF62737A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7A4-7376-4D2D-83F7-EFDBF0F0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A64-31C5-4E14-AD35-5C975EDA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383-8279-403B-B62F-C95AEDEF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9480" y="344160"/>
            <a:ext cx="73450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003-1379-490C-B5AC-D42B7319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98D-A387-4B14-9FE2-96B361F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2DD-601D-4CD7-AB5F-0F0AFE87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BBE-FE01-4899-8EC4-6DBB2677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\\Penfold\Clients2\CUSTOM_SERVICES\2004 Updates\April\static templates\Medical\PPP_SMEDI_TXT_Patient_Reco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598760" indent="-22716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0903-8BC4-4E92-AAC8-CCE29FEFC97C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70BB-EB04-4051-9CAB-0807B0464DA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\\Penfold\Clients2\CUSTOM_SERVICES\2004 Updates\April\static templates\Medical\PPP_SMEDI_TLE_Patient_Reco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598760" indent="-22716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1D7D-0273-4A0B-B8D1-DAD0B1FC05F4}" type="datetime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AE02-F079-4E1E-BF30-589111545FC2}" type="slidenum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3840" y="2134800"/>
            <a:ext cx="5423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care Support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9000" y="2895120"/>
            <a:ext cx="521352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ign of ER of the Futu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a Kha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rish Venkatesh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jay Ramnath Jayarama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9DF-0370-45DE-BACB-A4B3A13DB57F}" type="datetime">
              <a:rPr b="0" lang="en-US" sz="1100" spc="-1" strike="noStrike">
                <a:solidFill>
                  <a:srgbClr val="4d4d4d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933-D6D7-48D7-A5B1-0EAF5CCE424D}" type="slidenum">
              <a:rPr b="0" lang="en-US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3840" y="2134800"/>
            <a:ext cx="5423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500280" y="3235320"/>
            <a:ext cx="521352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Questions &amp; Suggestions?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F7DC-79BD-41D9-8EC2-2AD04BBA1A21}" type="datetime">
              <a:rPr b="0" lang="en-US" sz="1100" spc="-1" strike="noStrike">
                <a:solidFill>
                  <a:srgbClr val="4d4d4d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65C-4297-48B7-B50B-2DE9D023392E}" type="slidenum">
              <a:rPr b="0" lang="en-US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s leave the Hospital without comprehension of discharge diagnosis which commonly results i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s not adhering to medical advi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effective follow-u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2438280" y="3429000"/>
            <a:ext cx="3505320" cy="3029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/>
            </a:outerShdw>
          </a:effectLst>
        </p:spPr>
      </p:pic>
      <p:sp>
        <p:nvSpPr>
          <p:cNvPr id="99" name="Date Placeholder 5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2322-AF0A-4683-8257-0EB84CCEBE8C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7164-E0CA-4C78-8D65-564CB39CC3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7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Product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920" y="1584360"/>
            <a:ext cx="428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33560" y="1584360"/>
            <a:ext cx="428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nteractive Discharge table/kiosk (like a Microsoft Surfac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signed to address all the core issues with discharge in addition to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atients provided with info about his/her health (audio/visual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n the follow-up options (mobile phone/email aler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viders can add-on notes, have the normal functionality of an EM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djustable for all the patients with different acuity leve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1472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Date Placeholder 6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1533-8598-4286-947B-0702803D89F5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7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8FA6-A2D2-44F0-8235-52E9F80518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Hardwar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238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est/Expensive option – Buy a Microsoft surface computer and worry only about the Software Design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ros: multi-touch process (doctor/patien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s: no flexible 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96640" indent="-29664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Viable Solution – Simulate a Surface computer(computer projector  + touch screen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ros: Cheap, can build a flexible 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s: No multi-tou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ardware/Software support for mobile alerts (text, audio &amp; visual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Wheels, adjustable (height and angle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udio/Video recording/suppor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nternet connectiv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870440" y="2279520"/>
            <a:ext cx="1768320" cy="147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931080" y="1596960"/>
            <a:ext cx="1914480" cy="15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7388280" y="3346560"/>
            <a:ext cx="1407960" cy="176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4870440" y="3956040"/>
            <a:ext cx="2043000" cy="176220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16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4B02-B7C0-4014-B659-34988F436133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7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BFCA-41A5-4AF5-B1C9-F0584D5282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8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5"/>
          <a:stretch/>
        </p:blipFill>
        <p:spPr>
          <a:xfrm>
            <a:off x="7083360" y="5254560"/>
            <a:ext cx="16099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8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&amp;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160020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top has doctor and patient login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ain differenc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 login disallows access to records of other patient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top main men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R C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ost ER C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088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in scree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in type(doctor/patient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Usernam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sswor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tient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octor login, is able to search for patient using patient last name and ID(TBD).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tient login, can only view his/her medical details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R Ca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revious ER discharge histo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CT’s &amp; X-rays from earlier visi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Current discharge for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ink to anatomy atl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ost ER Ca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arlier prescription schedu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ietary restrictions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llow-up informa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abling/Disabling medicine remind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abling /Disabling follow-up remind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(Clicking a discharge form, follow-up information, anatomy or CT images opens them in a new window on top of the main window.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ying it down to our problem stat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natomy Atla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esign Decis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on whee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ylu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terfac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teraction sty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cces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ase of use and Deploy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uilding on top of existing practi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sit to Emory 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Witness the actual discharge procedu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ocumentation of discharge instruc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icro level designs and featu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mplement and Test iterativel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F560-DB96-4435-9F50-46232E7F3940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B42F-4F4F-4F6A-AC94-167FFE2EB2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8:54:34Z</dcterms:created>
  <dc:creator>Georgia Institute of Technology - OIT - ITS</dc:creator>
  <dc:description/>
  <cp:keywords/>
  <dc:language>en-US</dc:language>
  <cp:lastModifiedBy>Girish</cp:lastModifiedBy>
  <dcterms:modified xsi:type="dcterms:W3CDTF">2008-10-28T19:31:40Z</dcterms:modified>
  <cp:revision>41</cp:revision>
  <dc:subject/>
  <dc:title>Aftercare Support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41033</vt:lpwstr>
  </property>
</Properties>
</file>